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15378"/>
        <c:axId val="15639267"/>
      </c:barChart>
      <c:catAx>
        <c:axId val="30915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9267"/>
        <c:crosses val="autoZero"/>
        <c:auto val="1"/>
        <c:lblAlgn val="ctr"/>
        <c:lblOffset val="100"/>
        <c:noMultiLvlLbl val="0"/>
      </c:catAx>
      <c:valAx>
        <c:axId val="15639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5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F60-3FC8-4DDE-B25E-59DB2C48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295-CBDC-4DF8-A6B5-F028F60A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15A-9EF7-42FE-AD82-E20285DB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5CC-4386-4ED0-BA31-0ECC02D5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E4E-0FEA-4E05-8883-91DA553D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819-C435-463E-86E0-E8CB9031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FCE-C590-4AC0-9B5E-63B94F34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C14-063A-499C-BB91-7178D5C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4A7-10AC-4015-916E-CE27053D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39F-C699-4258-BD37-1C0C8A1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872-11D7-4D3B-8B39-C62CA935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8C6-F889-40D5-9E1B-97D2040F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89A35-262B-4ABC-80A3-8657882A44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