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7702738"/>
        <c:axId val="63642520"/>
      </c:barChart>
      <c:catAx>
        <c:axId val="1770273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642520"/>
        <c:crosses val="autoZero"/>
        <c:auto val="1"/>
        <c:lblAlgn val="ctr"/>
        <c:lblOffset val="100"/>
        <c:noMultiLvlLbl val="0"/>
      </c:catAx>
      <c:valAx>
        <c:axId val="6364252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70273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D836B-6D46-4FC9-A2BC-C8F8DF19C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E2B64-83FF-4417-AFDD-BD868A510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E3F3F-1163-4BE5-83BA-13A0F8975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A2AE3-7DDC-4AE9-8DAC-B8BB2176A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DEE18-CA88-472F-9F0F-9565D36AA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9D241-6104-4BBE-A75F-FAFFEFD7B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F89D7-4F0E-4B2D-9B62-DA91060C5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AF379-8D11-4CFE-B59D-504ED56F4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35119-BE1F-436C-A81A-A50741577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C24A7-E659-4B4F-B20B-FB231A25F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D255D-9600-4AE1-9815-56C3845CE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1B7E4-6748-46D3-A1AF-7A8780FE4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3CEA43-243F-46CB-ACDF-312AFEDF519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