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7555"/>
        <c:axId val="43264155"/>
      </c:barChart>
      <c:catAx>
        <c:axId val="227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64155"/>
        <c:crosses val="autoZero"/>
        <c:auto val="1"/>
        <c:lblAlgn val="ctr"/>
        <c:lblOffset val="100"/>
        <c:noMultiLvlLbl val="0"/>
      </c:catAx>
      <c:valAx>
        <c:axId val="43264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373-E349-43C6-AF20-8A8CD04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92F-CD9C-4532-93F1-85FFFBC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C24-2E6B-40A9-B926-118BF9E3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82E-D475-444F-9D24-80C98E1B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B19-0D79-4016-B140-3191DB9C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8CA-0801-4DE1-9279-90CC7E4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0D9-2B43-4C54-AAD9-FF0636E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D53-84EF-43A4-A814-CBA7A92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F94-F380-428E-B8C7-53710D74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B8E-C3DC-49ED-9AFE-E7F39C7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584-701C-45D5-BD9D-C069D7A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F19-B41A-4937-B1D1-DB734E6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D0BA3-836A-4F2A-A37B-4FF997D16C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