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95316"/>
        <c:axId val="24754317"/>
      </c:barChart>
      <c:catAx>
        <c:axId val="69995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54317"/>
        <c:crosses val="autoZero"/>
        <c:auto val="1"/>
        <c:lblAlgn val="ctr"/>
        <c:lblOffset val="100"/>
        <c:noMultiLvlLbl val="0"/>
      </c:catAx>
      <c:valAx>
        <c:axId val="24754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95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769-734B-4D9F-AFFC-5F1D0F46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1A3-A505-49B6-BF7C-9A73D853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9D2-A082-4382-9431-3F02CA0F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B18-2B57-4C26-BA59-F1092A94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EBC-7D04-4F94-9A59-238F55F4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E98B-E715-4D98-97E3-C6A56191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DF0-FE4C-4BB1-9CC8-B46F4948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B0D-D24E-49FC-A449-1873F8E6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CCF-7BF1-4AC8-BF87-E1F2FD2D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539-6C5C-4901-8833-E5B104D7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296-9339-4C2C-BD8D-117E956A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0DE-0E15-48B6-A437-7A3D1629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A12A9-63A1-4296-BB55-0F2A03A693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