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513"/>
        <c:axId val="84213749"/>
      </c:barChart>
      <c:catAx>
        <c:axId val="4519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3749"/>
        <c:crosses val="autoZero"/>
        <c:auto val="1"/>
        <c:lblAlgn val="ctr"/>
        <c:lblOffset val="100"/>
        <c:noMultiLvlLbl val="0"/>
      </c:catAx>
      <c:valAx>
        <c:axId val="84213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61F-A1DC-48FB-A432-45B4A46C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1E3-887C-498D-98ED-4D872BA9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A85-B75B-4841-BF83-BBEBCB89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7AF-635D-4A9D-809A-4434B1E9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281-AA74-47A7-A23C-FD6ACBC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042-746D-4777-BBC8-E149A6FE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B87-14A9-4A24-B3A1-F12C273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8B5-AFAE-47E9-A87E-C8574DE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2B5-171A-4E37-B81D-F4E75D08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45F-C73F-4E8D-8F08-3D22DEC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7CC-B897-49DC-982A-B8D92E3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894-9797-4722-95C2-344D368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6A18D-8424-4740-94C3-8ED34B4FD7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