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155"/>
        <c:axId val="11999025"/>
      </c:barChart>
      <c:catAx>
        <c:axId val="90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9025"/>
        <c:crosses val="autoZero"/>
        <c:auto val="1"/>
        <c:lblAlgn val="ctr"/>
        <c:lblOffset val="100"/>
        <c:noMultiLvlLbl val="0"/>
      </c:catAx>
      <c:valAx>
        <c:axId val="11999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8F9-62B6-4083-8061-0F1E9A78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77F-AB26-494F-8C7B-B569B596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043-B783-4560-ACE3-C2721C43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2F6-885C-41D7-85B5-C9CDF86D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216-57A9-4500-A45B-DF9B27B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895-60F8-40EA-8EE1-D2D41DB6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706-A4AF-4C91-B260-549FA48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302-5F80-4194-9FAC-21827BA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5D4-18B6-4528-8BF9-8F53E08C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8FB-959A-4B21-9A3A-CF96834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48E-56FE-433A-99C7-3ADC1419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ED8-C4CD-4F0E-9DD2-E0683E2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13A2A-88FA-4CD8-A9F2-44AC24ED7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