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46978"/>
        <c:axId val="17749836"/>
      </c:barChart>
      <c:catAx>
        <c:axId val="19346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49836"/>
        <c:crosses val="autoZero"/>
        <c:auto val="1"/>
        <c:lblAlgn val="ctr"/>
        <c:lblOffset val="100"/>
        <c:noMultiLvlLbl val="0"/>
      </c:catAx>
      <c:valAx>
        <c:axId val="17749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46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EAD-84C3-4B67-8548-639945F0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DE2-1B6C-4B20-84FE-8B71DA4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864-5D30-436F-B3DF-15387392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6D7-5837-41C8-8BDF-2E05499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78C-69BB-405B-884E-99EE3F0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DCC-2718-4CD0-AFF0-8A159941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ED5-CDF6-49D2-BFE4-6EE21F10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537-4967-40B4-A281-3D84B61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BDD-EBBD-4ED0-B82B-C4250FAF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0F7-27B3-42C4-9E28-C1E190F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5CC-39D7-434D-A407-4F50741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6A7-0FB0-49DE-91D1-0E90FE8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C03E-499D-4633-A8D5-46A96FCCA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