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77905"/>
        <c:axId val="39425949"/>
      </c:barChart>
      <c:catAx>
        <c:axId val="426779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25949"/>
        <c:crosses val="autoZero"/>
        <c:auto val="1"/>
        <c:lblAlgn val="ctr"/>
        <c:lblOffset val="100"/>
        <c:noMultiLvlLbl val="0"/>
      </c:catAx>
      <c:valAx>
        <c:axId val="394259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779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18C4-4257-4218-990A-EEFEC516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F753-F04A-4A74-B960-12A528D5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747F-6A88-46BD-ACE6-8140BD35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107-D3FE-4548-9E39-0B42AC49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FBB1-FFEF-4871-980B-38F7ADBF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58FB-9D7C-40C0-8067-1201EE28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DA4A-B300-42F7-A175-12BCCD09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A6E1-B3D6-4E71-8417-38E5D44A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E534-1689-4921-8637-5C460214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577C-D7D1-4325-87A6-B7902221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67D8-D9F5-43C8-9DDE-9A40CDCE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267D-92FA-4FF9-8C03-EFA3ED8E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518BD-C7A9-45AC-9C22-636ED3C72A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