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59709"/>
        <c:axId val="70165854"/>
      </c:barChart>
      <c:catAx>
        <c:axId val="772597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65854"/>
        <c:crosses val="autoZero"/>
        <c:auto val="1"/>
        <c:lblAlgn val="ctr"/>
        <c:lblOffset val="100"/>
        <c:noMultiLvlLbl val="0"/>
      </c:catAx>
      <c:valAx>
        <c:axId val="70165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597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C5A6-907F-45D2-8F9A-5E222D98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AF3-B4DE-4A07-BC03-84CF81F3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D8D-1751-4263-B2FE-C00268AA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981-655C-4494-8465-76DD7BEC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D13-0228-49FD-95EB-38F97DBD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D17-B654-4D5E-92A8-70254E80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3420-A9BF-4600-9E20-E28DFC9C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CF8C-8A15-44A8-AFE2-88434EF6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4ED-8FD9-4EE2-ABD3-AFBF3CA6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61F7-CB16-489D-9EB0-FA044CCC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3C3-C466-4D85-A222-1938A1EC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A50-F9B2-4C00-A8AF-3EDF81B2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7366A-FF67-4A17-9F26-7169EB6445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