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07782"/>
        <c:axId val="87978526"/>
      </c:barChart>
      <c:catAx>
        <c:axId val="15007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78526"/>
        <c:crosses val="autoZero"/>
        <c:auto val="1"/>
        <c:lblAlgn val="ctr"/>
        <c:lblOffset val="100"/>
        <c:noMultiLvlLbl val="0"/>
      </c:catAx>
      <c:valAx>
        <c:axId val="87978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07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80F-194D-463D-854F-6C7581AD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D91-C230-4609-8BC8-FFDC83BE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650-6CAE-4B3F-B91C-7C9066AA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2B8-2CAF-419F-8108-39B88757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AAE-D9C5-492B-B2A2-5116A7AD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772-8E81-4127-B01B-1F4A5281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CBE-0EAE-47DC-B1B9-8264CE11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6C8-1F0D-4333-87DF-CA4ABD18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F1A-4B81-4763-9551-09362084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213-D359-432D-BDA0-A89A711E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12E-E737-48FD-8BA2-779C3939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62B-0C2E-4AA2-9B8D-14D4018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B3635-A824-406E-8D32-BBDAAB270D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