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763292"/>
        <c:axId val="11269355"/>
      </c:barChart>
      <c:catAx>
        <c:axId val="767632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69355"/>
        <c:crosses val="autoZero"/>
        <c:auto val="1"/>
        <c:lblAlgn val="ctr"/>
        <c:lblOffset val="100"/>
        <c:noMultiLvlLbl val="0"/>
      </c:catAx>
      <c:valAx>
        <c:axId val="112693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632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5710-3F7E-4000-A64D-D12C91317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DBFB-C071-4D53-BA18-804C5AF5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9E49-5233-4F4B-9A73-D7F0FD72D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96AD-63DE-4032-9666-55F98AEB9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8C10-E375-4852-BE55-9EC8EC2B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F455-DA61-48B1-945D-99AA71F2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D6C7-7EDA-4B3B-8C46-EEF4647F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E1EE-56E5-46DB-AFA2-916C1E3B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2F47-4DC9-4997-BE5A-6E8D0211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84E1-D0C9-44FB-9C9B-BE270430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09A0-B268-4D00-A8CD-94907432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EEC9-0604-42EF-9897-B51CF495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9D46A-BC37-4932-95F0-7A4BA964EB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