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65399"/>
        <c:axId val="79881872"/>
      </c:barChart>
      <c:catAx>
        <c:axId val="15465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81872"/>
        <c:crosses val="autoZero"/>
        <c:auto val="1"/>
        <c:lblAlgn val="ctr"/>
        <c:lblOffset val="100"/>
        <c:noMultiLvlLbl val="0"/>
      </c:catAx>
      <c:valAx>
        <c:axId val="79881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65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8488-AE5F-4C25-9BBD-3764CBE4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B153-8F6D-4A62-A70A-BA647F43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8188-EA81-4951-8738-41609625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10E-7CB1-4569-956A-EE78E3B8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2021-B8C2-41BB-968C-3B404EBD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0958-7B61-47CF-958B-3C350D4E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92BC-48E4-4216-915C-AB68846C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541-E30D-427D-AE55-74074D39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AFC5-79E0-4A15-A95B-7D909FE5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CECF-5CCC-440D-AFB0-0EBBBA4A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3B3C-0DD1-49A0-84FD-3DCD4C9C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E16-6F96-4191-BE1C-844FFA41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8FF82-6490-4A87-A9FF-7EA1CDC672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