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82690"/>
        <c:axId val="21380355"/>
      </c:barChart>
      <c:catAx>
        <c:axId val="41982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80355"/>
        <c:crosses val="autoZero"/>
        <c:auto val="1"/>
        <c:lblAlgn val="ctr"/>
        <c:lblOffset val="100"/>
        <c:noMultiLvlLbl val="0"/>
      </c:catAx>
      <c:valAx>
        <c:axId val="21380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82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25A-4E03-4C83-81A7-A8E24269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884-96DD-4E9E-A866-7BE57654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AD8-0EB5-49A2-BCD5-A417DB41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9A9-E40D-4E2D-BE52-C16F6940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2D5-45CA-4C48-A363-9E3AC75D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B28-4587-404C-B6F1-E9C9BA31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AFA-E0D1-4E31-9393-033D87CA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07D-9867-40C8-A595-58278D0C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912-00CE-4422-9E99-EDCB7A02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400-9616-43C1-834E-900FAAEA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847-2E47-439A-97CE-14FC0188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225-74E8-453F-AD32-0B9B2963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4CD2A-47E4-42DE-B3F8-0C54442E41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