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3636"/>
        <c:axId val="4290346"/>
      </c:barChart>
      <c:catAx>
        <c:axId val="3513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0346"/>
        <c:crosses val="autoZero"/>
        <c:auto val="1"/>
        <c:lblAlgn val="ctr"/>
        <c:lblOffset val="100"/>
        <c:noMultiLvlLbl val="0"/>
      </c:catAx>
      <c:valAx>
        <c:axId val="4290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0D1-F765-4CC6-B93D-2DB0A88F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ED3-A520-417E-BFB6-91C1371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FAE-94F5-4FEA-B62A-FB0F3078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D72-1026-4DD2-8756-CB466B10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B0E-858C-446C-A253-353FEDA8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75B-0A60-4776-B5DE-F58F9564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D2B-D00A-4E12-A764-99E83B1B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4FF-FBF4-4199-A062-6BD7CC7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84A-3E33-41BE-A7A3-40246D94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11B-67CD-40B4-AEAD-C800F48E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4E1-1AF3-4A9A-8309-C6DD37C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26F-07C3-49D7-89AB-FC8D32A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362D9-EFBE-4501-823E-3D44FF01ED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