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42147"/>
        <c:axId val="9122789"/>
      </c:barChart>
      <c:catAx>
        <c:axId val="95142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2789"/>
        <c:crosses val="autoZero"/>
        <c:auto val="1"/>
        <c:lblAlgn val="ctr"/>
        <c:lblOffset val="100"/>
        <c:noMultiLvlLbl val="0"/>
      </c:catAx>
      <c:valAx>
        <c:axId val="9122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42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2A1-085D-4F9C-B69B-7D725BC5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913-615B-44B5-9B83-CF96DE69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F81-00C7-4A42-8EAF-0553518D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61D-B791-4104-8806-370EAB08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F30-3C40-4D78-B0E8-E44D05B1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D55-C3EC-44D2-80B4-A93F3C26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B85-A68D-4329-BCEE-8EBEEAFF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1F1-1124-4250-9399-85797FB4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B2C-B3D8-4B1A-8B36-FA2FA711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CDA-ED6D-423E-834F-2CAD1CB4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A9B-332A-4BB0-AB5C-656DB727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3AE-B654-42FC-B6A7-FD9B0E8B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A4150-3656-46F2-A28E-E067203B6B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