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9650"/>
        <c:axId val="63681372"/>
      </c:barChart>
      <c:catAx>
        <c:axId val="9869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1372"/>
        <c:crosses val="autoZero"/>
        <c:auto val="1"/>
        <c:lblAlgn val="ctr"/>
        <c:lblOffset val="100"/>
        <c:noMultiLvlLbl val="0"/>
      </c:catAx>
      <c:valAx>
        <c:axId val="63681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9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5F4-31AF-4191-91F0-05B08882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392-52A6-4969-895A-7EB9F7C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438-2C5C-4776-9878-E4B80528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057-70B5-4C19-9A34-11A401B4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286-DA9C-426C-8790-86D02AA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D4F-F1EE-4AEC-BEA5-F2CEEC9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5E0-0483-456D-B59A-38EA4EC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053-C5A9-495F-84AD-CEBF5BD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D92-09C2-4624-B4F1-B662198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163-0825-4FC5-8F2B-F137B71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04A-123A-487F-BE60-E09951B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26B-3E1D-4AAE-AAE1-6A5173A5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6A730-4B51-4D8E-95B4-0F3CFF949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