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327953"/>
        <c:axId val="81486082"/>
      </c:barChart>
      <c:catAx>
        <c:axId val="813279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86082"/>
        <c:crosses val="autoZero"/>
        <c:auto val="1"/>
        <c:lblAlgn val="ctr"/>
        <c:lblOffset val="100"/>
        <c:noMultiLvlLbl val="0"/>
      </c:catAx>
      <c:valAx>
        <c:axId val="814860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279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AFC5-FACC-4AC8-A4DF-32160EBB2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EF5C-1190-4862-86B0-4715F336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7E8E-C558-43BD-A68F-27A29002B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4254-4544-425A-BA85-9C255312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FFB9-C87C-40A5-9241-C072DCD5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E78D-54E5-4709-8AC5-40001F35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AAE2-CB44-44F0-AB10-39BDFD51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042A-0197-4EC7-BF60-085AA4E3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9B4D-6A05-4F35-8944-BBC9024B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243F-1509-4290-94AD-245D5292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05B1-A137-4E79-BB9F-5544F023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B6C8-1D72-4A45-A8A0-9F1A2441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C5B4E-5C80-4AFE-888B-49D4EFD5A0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