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89007"/>
        <c:axId val="35920347"/>
      </c:barChart>
      <c:catAx>
        <c:axId val="12089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0347"/>
        <c:crosses val="autoZero"/>
        <c:auto val="1"/>
        <c:lblAlgn val="ctr"/>
        <c:lblOffset val="100"/>
        <c:noMultiLvlLbl val="0"/>
      </c:catAx>
      <c:valAx>
        <c:axId val="35920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89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E3E-C5AA-4B4D-8DF6-D97A7372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009-7B0C-48D3-82C2-A3F2A13F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B0B-40C0-48B8-BFD7-FDD7FA01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342-165E-4C56-BDE7-6859761D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7D0-30AB-4DDA-ABC3-B26345C9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E1A-4D6B-4EBB-9BD8-3F566F9D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4AA-438C-4922-A5B4-DAF2C8F5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2E0-5717-4124-9F7A-3FA2DA3D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97A-A26F-42EA-8F80-267F4C4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5AD-CAA5-4B95-BAE5-BF6E6DA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7F2-8BA0-4470-91E4-566CBA6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728-2487-4E41-95C4-70E5AAD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DDBA2-0C59-48AB-BE15-A1C514A6F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