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06321"/>
        <c:axId val="39623436"/>
      </c:barChart>
      <c:catAx>
        <c:axId val="70506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23436"/>
        <c:crosses val="autoZero"/>
        <c:auto val="1"/>
        <c:lblAlgn val="ctr"/>
        <c:lblOffset val="100"/>
        <c:noMultiLvlLbl val="0"/>
      </c:catAx>
      <c:valAx>
        <c:axId val="396234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06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D12-557B-4123-B56E-2AB94E84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878-80B9-46F8-8BC5-D55F1372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323D-FB29-44E2-84AE-F78DB380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E039-9840-4E3B-8DAE-8C4C2B85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9F0-85CA-45D8-A0F6-BB627E54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1E3A-3E39-4BAB-B834-A4A42FDE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281-7CD4-47F5-A55E-3D0A80A2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21C-72C5-4A15-9E37-E2E27221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FD6-114D-49AD-9561-7506CE08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6D7-037D-42AA-A4AD-00EAE9B7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A2D-6E28-49F8-B228-2CD3FD4B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998-6C5B-4D13-99ED-285B0FDB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9158A-EAFA-483B-A282-6D0FBBD6A7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