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771639"/>
        <c:axId val="24876710"/>
      </c:barChart>
      <c:catAx>
        <c:axId val="657716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76710"/>
        <c:crosses val="autoZero"/>
        <c:auto val="1"/>
        <c:lblAlgn val="ctr"/>
        <c:lblOffset val="100"/>
        <c:noMultiLvlLbl val="0"/>
      </c:catAx>
      <c:valAx>
        <c:axId val="248767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7716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B31D-B39A-4C53-9676-6B286286B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BA5C-5A9C-495A-B01B-FC582550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A33E-7C1F-4153-9AA6-5D89F0865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E6A2-BACE-428E-A061-B0E0E4E12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D8D0-4790-4AE0-A2AA-A42F380A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2632-FE90-4EB6-8B60-8B89F91D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4039-B1EF-4498-AB60-E778DE2B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0A63-6F5A-40CD-B764-D4D83AF3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7A0A-5702-45FE-B019-725C9F66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535B-DF27-4109-AA32-49CBCC14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A2B6-04B0-46D7-8A38-A18DB1F5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B816-198C-4E25-878C-1B186037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CA5928-3993-4E4E-B7EB-925E03DD55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