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30146"/>
        <c:axId val="90608120"/>
      </c:barChart>
      <c:catAx>
        <c:axId val="61630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08120"/>
        <c:crosses val="autoZero"/>
        <c:auto val="1"/>
        <c:lblAlgn val="ctr"/>
        <c:lblOffset val="100"/>
        <c:noMultiLvlLbl val="0"/>
      </c:catAx>
      <c:valAx>
        <c:axId val="90608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30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3CB-6ACE-477E-9399-F710AF33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416-B679-459F-AA13-25DEB18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80B-E295-463C-8F77-B9221D5B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790-5FF2-4168-B92B-8BBE8003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E0F-0345-498A-8482-DE882CBD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550-DF02-4362-9CE8-E9B14122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409-D665-4F12-8007-5A8F61A8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F76-DD17-4CFC-A0B1-F2F119DA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336-51C8-4E42-BCF8-9C340A73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04A-EAFE-4DB2-BF61-0212C85A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F71-716B-4B5C-899E-1CFC5D0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124-B7FA-4EC4-AF89-FF12D62E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4A5AD-4DDD-43D2-9949-9563A96570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