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17050"/>
        <c:axId val="91842237"/>
      </c:barChart>
      <c:catAx>
        <c:axId val="52617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42237"/>
        <c:crosses val="autoZero"/>
        <c:auto val="1"/>
        <c:lblAlgn val="ctr"/>
        <c:lblOffset val="100"/>
        <c:noMultiLvlLbl val="0"/>
      </c:catAx>
      <c:valAx>
        <c:axId val="91842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17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B7B-5391-42A3-8B66-CB776600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21C-4B4A-4D9D-880D-B5C6F184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C4A-8054-44B3-98F8-B69D6C59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CBD-FBF5-4AD1-9CEB-4032BFAF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566-740D-4097-9229-FB58707C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417-3FB9-4CB0-BB95-1A0ABCE9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D03-D39C-4FE7-B6F5-4BEBBAA1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F06-B98F-4F7D-AEF5-D67EED54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E5E-4AD3-4688-82D9-629B6688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EA5-B0B3-4791-AB38-C5780315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456-1E0E-402E-8720-82A7623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6D3-AEBD-463C-AA1A-4ECD5B7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1C331-3E6A-4722-8174-CD734D1DD1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