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7879"/>
        <c:axId val="47025205"/>
      </c:barChart>
      <c:catAx>
        <c:axId val="2197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25205"/>
        <c:crosses val="autoZero"/>
        <c:auto val="1"/>
        <c:lblAlgn val="ctr"/>
        <c:lblOffset val="100"/>
        <c:noMultiLvlLbl val="0"/>
      </c:catAx>
      <c:valAx>
        <c:axId val="47025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7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CBE-6C32-4B48-80F1-5F5652C6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EB0-44DC-4CC6-B379-237CDE0A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F56-4B46-44D0-BE01-1C0D2F2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E77-8336-4B1D-B9AC-F6BABC0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3CE-B539-48C1-92E6-65F9159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990-ED54-4817-9A15-95B5EA6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DC1-EA82-4617-84C9-02255FF1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47A-C4AE-4DAF-B14D-CC677EB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745-A917-409B-BFC0-E6BB2178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113-87A9-41CB-865A-ED5C5F1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819-B816-40ED-A4C5-6AAB0B8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E39-9881-4B67-8E22-73DE787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FFC0-948C-4305-87DA-C0C5A8BD5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