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64090"/>
        <c:axId val="50147135"/>
      </c:barChart>
      <c:catAx>
        <c:axId val="76464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47135"/>
        <c:crosses val="autoZero"/>
        <c:auto val="1"/>
        <c:lblAlgn val="ctr"/>
        <c:lblOffset val="100"/>
        <c:noMultiLvlLbl val="0"/>
      </c:catAx>
      <c:valAx>
        <c:axId val="50147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64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87F-CE13-4EFF-A4D7-0C5D92C1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555-030B-4876-9F2B-8B5838F4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7C1-3DAA-4DC7-89B7-AB1C3840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098-C983-4574-B68D-C5F70426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B80-0555-4E98-897D-3048EF4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4CF-9479-455A-BD11-C3024133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062-EA5E-457A-912E-62E01C8F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4B3-9287-4424-8482-368B290B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312-72D9-42E8-9A41-FAA4B2D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0DB-A621-4992-8612-73A97AB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66F-CF27-40EA-92A2-39445DC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FE6-5491-4F4F-9DF3-6D53505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052F4-5D99-4A06-986D-926B079FC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