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63730"/>
        <c:axId val="83570831"/>
      </c:barChart>
      <c:catAx>
        <c:axId val="14863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0831"/>
        <c:crosses val="autoZero"/>
        <c:auto val="1"/>
        <c:lblAlgn val="ctr"/>
        <c:lblOffset val="100"/>
        <c:noMultiLvlLbl val="0"/>
      </c:catAx>
      <c:valAx>
        <c:axId val="83570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63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193-5ACC-4237-9C5E-FCD4ADBA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B3C-B89D-4565-AD9E-B2F1F622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058-A495-484D-B5E3-5902E7FF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5A7-C717-4174-AD24-0EBC2EEC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098-75B9-41EF-A353-E8ED0282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112-FBB5-4281-82AB-A00349E0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3C8-90B9-4201-B818-64DDD17D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33B-2F2B-45A3-8161-2D3B520C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D3C-AC53-4BB3-8822-41D18544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96A-D487-4137-9742-EC3DF80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293-6575-46E6-BDED-0BEF92B4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738-62FC-4166-8CE5-316454C4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6D9C5-1249-4F72-900D-A26C35ECD6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