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82100"/>
        <c:axId val="79725208"/>
      </c:barChart>
      <c:catAx>
        <c:axId val="55282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25208"/>
        <c:crosses val="autoZero"/>
        <c:auto val="1"/>
        <c:lblAlgn val="ctr"/>
        <c:lblOffset val="100"/>
        <c:noMultiLvlLbl val="0"/>
      </c:catAx>
      <c:valAx>
        <c:axId val="79725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82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72B-3C7B-4661-B89B-5B86C412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CD9-70B1-48FF-A123-87C3E73E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356-2F73-4882-BEB6-95D071DF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1BF-DC39-4225-9952-69039510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689-D76A-49CF-9BD4-57ABC4E6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2C7-3E18-41C8-BC04-3AFD3D08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611-501C-44AB-8CDD-275E0E69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D49-696E-4928-9CC0-067DF373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38D-BEC6-4C41-B4D4-B7FE76E2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002-D0B0-487B-96CA-E52B7EAC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91F-7F75-41F2-821C-12988DAA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F02-1D4B-4E66-9750-955C97E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F3E4D-4AA7-4434-8AD4-A2F6B06D29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