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08474"/>
        <c:axId val="84388133"/>
      </c:barChart>
      <c:catAx>
        <c:axId val="11008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88133"/>
        <c:crosses val="autoZero"/>
        <c:auto val="1"/>
        <c:lblAlgn val="ctr"/>
        <c:lblOffset val="100"/>
        <c:noMultiLvlLbl val="0"/>
      </c:catAx>
      <c:valAx>
        <c:axId val="84388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08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E95-DA2E-4A2B-93A6-84D2737C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3EB-B5D7-4D0F-B466-FDD463B3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66A-9E26-46CA-ABDD-640680F8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DD3-763A-4548-B8FE-E7711D8F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D15-5516-4AA0-80D5-0C502E0C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D09-33EE-4003-917E-4704238E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AFDD-2880-4782-85FC-D1FADD7D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55D-E688-470B-8857-A0CA3471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1BC-D054-4344-ACA9-47B9A941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190-1C3A-4869-BC4D-6A163EC2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101-ECCD-43C7-AD0E-60CE73A8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DFA-0EC4-4A4B-B809-F4DA8E69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C5370-7EFD-4310-B490-1270EBBDEB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