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21744"/>
        <c:axId val="57971231"/>
      </c:barChart>
      <c:catAx>
        <c:axId val="74121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1231"/>
        <c:crosses val="autoZero"/>
        <c:auto val="1"/>
        <c:lblAlgn val="ctr"/>
        <c:lblOffset val="100"/>
        <c:noMultiLvlLbl val="0"/>
      </c:catAx>
      <c:valAx>
        <c:axId val="57971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1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B0F-DD53-434A-9E4A-CF6FE801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193-FA04-46F1-8889-8125B145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B91-D9CA-455A-B2B8-E4E2154A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564-3372-41C7-99A4-E317CBC6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6B5-061F-462E-93D8-CC072063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262-1D38-47DF-A07D-A1BC3071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DBC-817F-4CE8-A050-7345A989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E34-FB9A-4150-BC0D-86D12BE4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046-9F85-4F3D-91ED-C964C992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46B-58B0-48B0-9ADB-186CEFC8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8BD-FE49-45E0-8DFA-7D919DB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A45-BDBA-4C22-9391-2CABD26E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B98F8-E91A-4FEF-AAFD-EDC2CD9F8D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