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34816"/>
        <c:axId val="35791977"/>
      </c:barChart>
      <c:catAx>
        <c:axId val="58034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91977"/>
        <c:crosses val="autoZero"/>
        <c:auto val="1"/>
        <c:lblAlgn val="ctr"/>
        <c:lblOffset val="100"/>
        <c:noMultiLvlLbl val="0"/>
      </c:catAx>
      <c:valAx>
        <c:axId val="35791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34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0C4-31A6-4EBE-B46D-16296555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96F-7817-4FD2-80E2-55662D56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235-046B-46A3-BF19-39B0F4C0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B46-A313-4B9C-B361-816023D5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D73-C381-4A53-BDBD-1527F765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C24-2A2C-4DA7-B821-FEB1360B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760-85A2-48FC-881B-CD58064E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447-E2BE-4648-A77B-AB120505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46E-138F-4B63-9C76-F24A2D2B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F54-4B67-490D-A9B1-75563D0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0A3-48A6-4276-9581-8479BE44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C36-0ADC-4A12-8AF5-CA29E052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0258D-ADCA-46C3-8AF6-5ED26131DB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