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18413"/>
        <c:axId val="78216844"/>
      </c:barChart>
      <c:catAx>
        <c:axId val="30018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16844"/>
        <c:crosses val="autoZero"/>
        <c:auto val="1"/>
        <c:lblAlgn val="ctr"/>
        <c:lblOffset val="100"/>
        <c:noMultiLvlLbl val="0"/>
      </c:catAx>
      <c:valAx>
        <c:axId val="782168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18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2427-9213-4884-A3D1-F03240DA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2CC-03CA-4536-B536-D9B33FCE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651A-35CD-4279-86A3-32649975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8D81-4506-43B7-B884-5D417C84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C8A-7CDE-44FB-BA6D-F9D53DD3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3055-644F-42A5-86C4-33D34D64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AD9-D3C1-4807-88D5-4907BC69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067B-2249-459E-9767-42BC453E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4FDC-9F57-4C60-8BFA-7E6249AF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B8D-426C-4E65-ABEE-B82B0F77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1F2E-DAD9-4B79-A34F-FD640135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9DEC-2C3E-4CD4-9BD0-582B5D9E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5E52D-79F8-46D0-80B9-CF499F59D9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