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63845"/>
        <c:axId val="55078690"/>
      </c:barChart>
      <c:catAx>
        <c:axId val="15063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78690"/>
        <c:crosses val="autoZero"/>
        <c:auto val="1"/>
        <c:lblAlgn val="ctr"/>
        <c:lblOffset val="100"/>
        <c:noMultiLvlLbl val="0"/>
      </c:catAx>
      <c:valAx>
        <c:axId val="55078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63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ACC-CF51-44C0-AF20-65C5000A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554-1243-4B58-8526-F0A8F44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1D4-C917-4F0A-99C3-452034F7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B6C-6FD9-45D4-9037-79277DB2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9D8-5343-468D-8197-AA22789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6C8-1700-4B62-8A7E-FFCAB5E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BB7-C0D9-4A77-A661-6EAEA7D5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463-CE41-47E0-BA43-C2975FD5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408-E546-43CD-8351-542CFEBE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AD5-9256-4F2F-A432-7313581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30B-CDB7-4898-8501-7765BD2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C6A-545C-4485-A9C4-7C2B29D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D6C08-8973-40F0-937B-A11FCFC46A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