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98095"/>
        <c:axId val="65276170"/>
      </c:barChart>
      <c:catAx>
        <c:axId val="12098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76170"/>
        <c:crosses val="autoZero"/>
        <c:auto val="1"/>
        <c:lblAlgn val="ctr"/>
        <c:lblOffset val="100"/>
        <c:noMultiLvlLbl val="0"/>
      </c:catAx>
      <c:valAx>
        <c:axId val="65276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98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7D1-B805-48CB-9F61-8ED16330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C85-B091-4035-9955-16B7A068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0B7-26BB-45CD-8F88-3C8AC56F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BA7-259E-4D55-BB03-1DCB3051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602-8999-4561-ACC2-37171C6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293-09ED-426E-AEF4-C1161B1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C7A-92A0-44DB-BAD4-F48317F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7F6-4972-4EC6-A2B7-4A1FA3BE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0D9-713B-4D0C-9351-97562451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28C-C5DA-48D4-8DFC-73DC49D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3F1-B0A3-487A-B0DB-2CE048E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3FA-B3B0-46BF-8E0E-27C7D43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2EE78-6E13-4EB5-AC9C-7D1188484F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