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719707"/>
        <c:axId val="31690678"/>
      </c:barChart>
      <c:catAx>
        <c:axId val="971970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1690678"/>
        <c:crosses val="autoZero"/>
        <c:auto val="1"/>
        <c:lblAlgn val="ctr"/>
        <c:lblOffset val="100"/>
        <c:noMultiLvlLbl val="0"/>
      </c:catAx>
      <c:valAx>
        <c:axId val="3169067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71970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FB4D3-3085-467B-B448-768049A53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01FBD-6701-4482-9E1D-7CFF472C7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8CA2F-203F-4C74-9315-E926D13CB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70999-FEA5-4688-B751-9C1B939A8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B3192-C38D-47C6-AD44-1DCA7E96B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9822F-B170-42A8-BA26-D5C5C61DC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0B26D-3F62-4276-BAC7-8EE009B44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DF0F4-806B-4991-ABAC-5A846A390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04251-16C9-4CD3-8B84-86D582781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41DB1-948D-419A-880E-70A2A2A3D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2EBC0-3BEF-454C-889F-A43592FC5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A1919-A293-41CD-9F59-43BEFDEF6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360445-2064-4D31-99C0-05413DD8C87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