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07324"/>
        <c:axId val="81987321"/>
      </c:barChart>
      <c:catAx>
        <c:axId val="993073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87321"/>
        <c:crosses val="autoZero"/>
        <c:auto val="1"/>
        <c:lblAlgn val="ctr"/>
        <c:lblOffset val="100"/>
        <c:noMultiLvlLbl val="0"/>
      </c:catAx>
      <c:valAx>
        <c:axId val="81987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073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CEF-E22C-41F4-AC5B-D730DB5A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0CC-C7D7-41B9-884E-2523DF91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7B5-5477-4B65-A6DA-8F1C5D26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DD6-F550-4C95-8F02-8F3C0178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B06-7E15-481E-86D1-18E434C2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21D-E6FA-42F7-9A63-B619CEC6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6B3-79C5-4A5A-B257-E895D753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B39-F33F-41F3-BEA6-B3FED2A1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634-83A0-493F-B904-0933587C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B9F-AFC1-4C12-9390-00D15F1C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F9D-200F-4C74-B812-364F0DF4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034-B6B7-4765-B5EB-E26DE809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1B063-FC69-4DB5-BFBC-37BCC7DFB4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