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71679"/>
        <c:axId val="33012879"/>
      </c:barChart>
      <c:catAx>
        <c:axId val="698716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12879"/>
        <c:crosses val="autoZero"/>
        <c:auto val="1"/>
        <c:lblAlgn val="ctr"/>
        <c:lblOffset val="100"/>
        <c:noMultiLvlLbl val="0"/>
      </c:catAx>
      <c:valAx>
        <c:axId val="330128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716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5D2A-7AAF-435B-B541-B7F338D7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AC9-016C-4F28-A3F6-C8BFB342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52B-2931-4526-8CAB-B4F8CDEC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CA1-E83E-4B43-8B45-4D9234AF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0A6E-8B20-4DFE-AD15-C5009282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996-9C24-4E49-807B-727E426F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7D72-3F5F-4BC4-B9C2-16BAF236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E5AB-5FCE-4C84-80D3-2983C356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CFCF-F57D-4233-899E-68098B47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5C0-6968-4F70-B26A-859654A1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7A6-FC3D-4644-8099-FEF3EED8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92C-5AA9-4CF6-B4D2-54269245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A5A92-740C-4252-B58A-7D24C11DC2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