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11762"/>
        <c:axId val="84050254"/>
      </c:barChart>
      <c:catAx>
        <c:axId val="22111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0254"/>
        <c:crosses val="autoZero"/>
        <c:auto val="1"/>
        <c:lblAlgn val="ctr"/>
        <c:lblOffset val="100"/>
        <c:noMultiLvlLbl val="0"/>
      </c:catAx>
      <c:valAx>
        <c:axId val="84050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11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1DE-696F-4D5F-B005-77B6987D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0C7-737C-4556-B964-ABFCABC2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2EB-EA8C-4D68-A9CC-BB001B9F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977-5201-476E-9353-873F6E7D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A58-D6F6-4BC2-ADB2-C68B0FDD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769-BC05-465C-B4FB-90D306A4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645-5D40-4EF7-8461-A1E1D0C3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12D-3F1B-4E00-ADC8-825E8D5A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63D-905D-46CC-8895-77B91CC6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8E7-3FAC-4D32-BF2F-C343F67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866-F071-4942-A2F4-C12AF1C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E15-7AC7-448F-B50B-7798534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BDF46-AC70-4088-841E-2841E30B2D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