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084251"/>
        <c:axId val="22823230"/>
      </c:barChart>
      <c:catAx>
        <c:axId val="650842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823230"/>
        <c:crosses val="autoZero"/>
        <c:auto val="1"/>
        <c:lblAlgn val="ctr"/>
        <c:lblOffset val="100"/>
        <c:noMultiLvlLbl val="0"/>
      </c:catAx>
      <c:valAx>
        <c:axId val="228232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0842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A655-C96E-4F65-97FC-0C9D81D75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EB92-26EE-41C1-B7E8-1C1695107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E126-B983-47E5-9B20-9DDD17C59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54D0-AB1A-48FF-8F5C-42ADA9F4E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8EA8-586F-4420-86BC-E73DDFA2D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D889-C740-438B-A20D-036BBCFF7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07C6-10B8-4775-B914-00F322069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EC77-E1A4-4F65-AEFF-1EC9C06FD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A2B1-253F-4E10-9567-791D49FBF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1FDE-6467-4C64-A8FB-F96AAA5C8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5BCA-BE92-4D42-A4C5-1F3305CAC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2BFF-87CA-4EB5-9194-B01A66908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CAF0FC-4CEA-400F-A626-C642CC5D387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