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80065"/>
        <c:axId val="83975588"/>
      </c:barChart>
      <c:catAx>
        <c:axId val="36080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75588"/>
        <c:crosses val="autoZero"/>
        <c:auto val="1"/>
        <c:lblAlgn val="ctr"/>
        <c:lblOffset val="100"/>
        <c:noMultiLvlLbl val="0"/>
      </c:catAx>
      <c:valAx>
        <c:axId val="83975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80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997-D830-44A8-BEE3-E6FA1EC9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A61-9D41-4980-8805-D0BA3B85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BBA-B377-492F-8388-447E93C0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EF3-3970-4695-AECF-2B7A2580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A32-6542-40AD-B04E-0A455BD9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305-000C-4D62-A914-BB459885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1A6-44D0-45B2-9062-546130B4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081-D70F-45B6-8CB8-DF8444A8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4A9-C01D-4FCC-B6AC-BCB27E76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9CD-17AC-4A4F-B70F-30E75E5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CB3-549D-428B-868E-A96FD5D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DBF-43CB-42FD-AC43-E20EE1D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591DC-222B-447E-BA0E-D1E19E8F2C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