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30732"/>
        <c:axId val="11708339"/>
      </c:barChart>
      <c:catAx>
        <c:axId val="77830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08339"/>
        <c:crosses val="autoZero"/>
        <c:auto val="1"/>
        <c:lblAlgn val="ctr"/>
        <c:lblOffset val="100"/>
        <c:noMultiLvlLbl val="0"/>
      </c:catAx>
      <c:valAx>
        <c:axId val="11708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30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D0D-81ED-4FAE-BF9C-ED14ED41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EF1-84E9-491F-95E2-4AF55E6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4F6-C82C-4546-A38E-1CE19226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742-0C69-4210-A94F-C68A714A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0AC-E4D4-48B1-A2F1-8C030585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307-E287-4C29-8321-DA4C8D99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939-A53B-4BC2-812F-DE8B79C0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9C0-9F5C-48DF-AA02-16E9A896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6AB-3CF4-43CA-8576-3F525722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83A-5C71-44B0-9C1A-CDE363B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BFE-5370-435E-8FA7-42982471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D45-DCBB-47FD-9ED8-9F25B3C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1DAD4-0A4F-42D8-B988-345B29B09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