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512063"/>
        <c:axId val="9431414"/>
      </c:barChart>
      <c:catAx>
        <c:axId val="225120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31414"/>
        <c:crosses val="autoZero"/>
        <c:auto val="1"/>
        <c:lblAlgn val="ctr"/>
        <c:lblOffset val="100"/>
        <c:noMultiLvlLbl val="0"/>
      </c:catAx>
      <c:valAx>
        <c:axId val="94314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120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AF43-6F56-44B9-B340-5866271AE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2953-C0BE-429E-961F-7984CD9C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E69C-C53C-4D06-8E9F-B20742242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6D2A-714C-4910-A809-4E172FEBC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63B4-954D-4903-93DE-690FE2DF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A6AE-898C-41C4-BA4B-87C4D07A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849A-9C2B-4063-9ADA-7B86B93D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B7AA-7353-4E77-8461-557DACCF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E926-23AB-4A8F-BBEA-77A578DC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4B40-67CA-4513-B02F-20D2A8C0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0ED6-9995-4000-BFAC-7E4DB2CC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6401-F5B7-4458-AF45-2608F2AD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C1B965-ED69-4C16-AE1F-AB3F893E7D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