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70702"/>
        <c:axId val="97229264"/>
      </c:barChart>
      <c:catAx>
        <c:axId val="30270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29264"/>
        <c:crosses val="autoZero"/>
        <c:auto val="1"/>
        <c:lblAlgn val="ctr"/>
        <c:lblOffset val="100"/>
        <c:noMultiLvlLbl val="0"/>
      </c:catAx>
      <c:valAx>
        <c:axId val="97229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70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8CA-7143-4855-B0B2-C7E774DE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896-BF6F-443A-9F5B-4FCA455A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925-3887-4077-89D6-9608C331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DD9-86F9-4A8B-AD4F-5865B72E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CDA-59B4-4D14-BFB2-6FF8A026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737-47BB-4F32-B0A5-A3F2D8EF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6334-B0B1-4517-8864-BE472AE3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429-E9A7-4775-B469-743BA9F5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9A1E-B388-4829-B034-3F235313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DF9-064B-4862-8C5F-4ED456E6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AD5-7BAC-499B-93A8-40806E71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AC8-EF47-4470-B8D4-AFC0785B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C3FD8-D0FA-4709-B5B0-0B0A6FDD94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