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224163"/>
        <c:axId val="97015520"/>
      </c:barChart>
      <c:catAx>
        <c:axId val="112241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015520"/>
        <c:crosses val="autoZero"/>
        <c:auto val="1"/>
        <c:lblAlgn val="ctr"/>
        <c:lblOffset val="100"/>
        <c:noMultiLvlLbl val="0"/>
      </c:catAx>
      <c:valAx>
        <c:axId val="970155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2241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43BD-80A1-414B-B801-963CBC1AE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6B68-0137-4287-B212-5B6EBCBD2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E609-B00C-48D2-A116-99E21060A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1DE4-49EB-4198-BE32-035A4E7E2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C504-C94D-4BFE-BCC2-CDFB59E6C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5AF5-08F6-4CC9-852C-09B2E35AD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E08E-A347-4C64-8FB6-5BE142266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AE2A-AF94-4FEF-8046-579B89B27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D591-274F-4E89-9C44-02C0DEEC8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ED86-5319-4774-A1A1-24D755F5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972A-A76E-49F5-86F3-628AF328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5136-4127-4493-8C61-B77EBD05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AE9518-DED0-44FD-ABA8-6236AD30C60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