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010239"/>
        <c:axId val="52196518"/>
      </c:barChart>
      <c:catAx>
        <c:axId val="560102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96518"/>
        <c:crosses val="autoZero"/>
        <c:auto val="1"/>
        <c:lblAlgn val="ctr"/>
        <c:lblOffset val="100"/>
        <c:noMultiLvlLbl val="0"/>
      </c:catAx>
      <c:valAx>
        <c:axId val="521965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0102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D28E-657C-4E41-BFAD-0AC4D2456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F2FF-C85C-4F15-BB84-E7FD1DDE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4B1E-705F-42AF-B8B4-CA8780E10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58D6-072F-4DB8-B42A-B35656924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EB68-1227-4424-82E2-85DCAAB2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CB04-702A-4907-8F28-900466FF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E0B0-4F57-4F79-935C-E88F1401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11F1-6490-49E7-A44B-1F35ECD5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A331-EEDB-45D9-9F35-52148145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3C0D-DFC1-4275-8C1C-78D25549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F0B2-7DE5-407E-BD22-D27BBD12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F10F-CF05-4051-9E15-506F8B43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F20C7-A3CB-47DD-AE8A-3DC7ADFDF7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