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52292"/>
        <c:axId val="35939422"/>
      </c:barChart>
      <c:catAx>
        <c:axId val="34952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39422"/>
        <c:crosses val="autoZero"/>
        <c:auto val="1"/>
        <c:lblAlgn val="ctr"/>
        <c:lblOffset val="100"/>
        <c:noMultiLvlLbl val="0"/>
      </c:catAx>
      <c:valAx>
        <c:axId val="35939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2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4EE-4DC4-457E-AF5D-0A6544A1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A38-5969-4D27-B13F-2E3200F0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0F3-9A55-44A4-9554-13408EA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E4D-7BCD-40E4-A847-493BD0E1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89F-7D01-418A-A308-7DD443FC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441-F8FC-4703-A4CF-E9697CA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7F4-353D-4101-AEDA-B46184DD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2F6-A838-42B8-9ACA-019EAEC8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07D-2AB6-4D39-AFF3-AF59AD6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7B9-1550-4DC3-A291-7CBA7A8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E4F-4E05-4903-A150-0E3E6BA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1515-0BC2-47FE-AA92-76E6E05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6852-0DDA-46DA-87AF-83E81A3E0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