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8431"/>
        <c:axId val="40583012"/>
      </c:barChart>
      <c:catAx>
        <c:axId val="5484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583012"/>
        <c:crosses val="autoZero"/>
        <c:auto val="1"/>
        <c:lblAlgn val="ctr"/>
        <c:lblOffset val="100"/>
        <c:noMultiLvlLbl val="0"/>
      </c:catAx>
      <c:valAx>
        <c:axId val="405830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84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1D05-862A-4B71-8311-B035BFE6B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1F73-C787-46D0-A539-97CE3528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8327-9225-4179-B6ED-CF806EF96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CEC1-11D2-49C8-BBF5-85C6A7A71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0306-CB49-49DE-BB2E-DC6CF0C8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34AA-9BB6-42CF-ACA8-F01E48B6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E7FE-300A-4469-A955-0B2FE7C5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2B36-F5F6-414F-A6F2-D4F828CC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AB49-E8F0-44AE-AD96-7C2939C4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F7E7-F1EB-4EEA-8E70-7E731ADC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31B8-B942-4782-B4C4-758C9CC1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9485-920C-4340-9BD5-98D9446A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030EEA-7964-44EA-ADF4-BDCB678A12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