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09706"/>
        <c:axId val="80076960"/>
      </c:barChart>
      <c:catAx>
        <c:axId val="75709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76960"/>
        <c:crosses val="autoZero"/>
        <c:auto val="1"/>
        <c:lblAlgn val="ctr"/>
        <c:lblOffset val="100"/>
        <c:noMultiLvlLbl val="0"/>
      </c:catAx>
      <c:valAx>
        <c:axId val="80076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09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BB6-C889-4468-A3F6-6CDBD1E7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7747-D48D-4220-A8DC-B960C769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4F9-B20F-453A-9B1B-2338D2C7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7A1-B53B-407F-A555-74CCF98F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9C6-ADCA-4820-8E68-BA08BB4C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053-3AA1-4B2B-B7C9-D5880FC8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9E57-5B49-4872-BC94-B91B5176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AD3-E9C4-43B2-A53F-A0F1D031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03D-3EF0-4C24-B27B-21A39095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769-1C70-46B8-97D7-C6B199C7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9CE-6BDB-4121-9137-3F5C40C6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6729-6BA6-4C62-AF48-FDE2C01A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A0105-136F-4C31-A6AB-F79E7E493E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