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8374"/>
        <c:axId val="36682855"/>
      </c:barChart>
      <c:catAx>
        <c:axId val="3028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2855"/>
        <c:crosses val="autoZero"/>
        <c:auto val="1"/>
        <c:lblAlgn val="ctr"/>
        <c:lblOffset val="100"/>
        <c:noMultiLvlLbl val="0"/>
      </c:catAx>
      <c:valAx>
        <c:axId val="36682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8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DBD-FF47-4EC9-897D-2F50D28B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484-E5A6-4C6E-8966-F7F85014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EE7-4872-4A46-AC86-20FF09AC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CE2-0B9E-4F64-9A5D-8B5E3D3C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EB5-72E1-4FFF-9469-92BA435A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A14-8602-45E2-9A5D-503AD48F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1A8-2EAE-46DC-8A22-1D93ABCA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3B8-F997-42B9-84AF-F9B91B4D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F0C-253F-457B-84E0-ED2D4423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EB7-3D21-4426-BE2D-C0DCE9C6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1FB-9BAD-4A94-9614-C79729E5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7F7-16DE-40E4-A212-286EC47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9C81A-6BB0-4470-A88E-AFCA620B2E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