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953695"/>
        <c:axId val="47571757"/>
      </c:barChart>
      <c:catAx>
        <c:axId val="339536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571757"/>
        <c:crosses val="autoZero"/>
        <c:auto val="1"/>
        <c:lblAlgn val="ctr"/>
        <c:lblOffset val="100"/>
        <c:noMultiLvlLbl val="0"/>
      </c:catAx>
      <c:valAx>
        <c:axId val="47571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536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A00-8157-4A51-8328-3852331E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9AC-6168-4E1C-9CB0-E68E67F7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371-5CEE-4A19-B48D-114521052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16A-3360-446E-BCBF-F440AB60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B8C6-A60D-4722-B609-A6511BFE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031A-C446-48EE-B35B-E3211239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5BBC-9C43-4531-BD42-933D9052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E90C-FD93-4ADF-A5D7-6B6C9FCD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8FF-08D1-4C79-9531-36473D0E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29A6-C3C6-47FE-B99A-A658AD1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858-2336-4BC8-AF7B-35DC888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A84-F8B2-4D5B-B854-2FC96C41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6A4B0-A83C-431D-991D-CFBB12A1CE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