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311829"/>
        <c:axId val="5820288"/>
      </c:barChart>
      <c:catAx>
        <c:axId val="2031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20288"/>
        <c:crosses val="autoZero"/>
        <c:auto val="1"/>
        <c:lblAlgn val="ctr"/>
        <c:lblOffset val="100"/>
        <c:noMultiLvlLbl val="0"/>
      </c:catAx>
      <c:valAx>
        <c:axId val="5820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1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AAD-CB68-4975-B2B7-4892D7C4B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317-DE05-4065-AA96-567A8732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748-E627-4034-AAE3-3F54CC84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1DA-0110-4CCD-879F-DC6225CA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F317-78A2-49E0-A2B7-AE02772B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084E-2BD0-46F1-9446-2B51161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FDE7-56CB-49CB-8304-AD01413E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A22C-AE02-4B79-BA7C-E58824A7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3C93-79A7-4CAD-A13D-7783CA17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7322-597F-4364-A0AF-901B1E87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FA3-40C5-409B-84E9-4AA01BA6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A46-52C7-4E15-9EBE-662A7B5B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C7BE6-B6FC-4915-81E9-BB37B1086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