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83765"/>
        <c:axId val="18857521"/>
      </c:barChart>
      <c:catAx>
        <c:axId val="7078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7521"/>
        <c:crosses val="autoZero"/>
        <c:auto val="1"/>
        <c:lblAlgn val="ctr"/>
        <c:lblOffset val="100"/>
        <c:noMultiLvlLbl val="0"/>
      </c:catAx>
      <c:valAx>
        <c:axId val="18857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8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515-8020-482C-BF87-D4EFA7AA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ADE-61FA-4FFF-8303-172A849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FCC-897C-456A-9449-3584AB2D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305-AA9B-4366-8FF7-B9BD191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1F0-8970-4563-9EC3-266EBDB4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933-DF33-4610-91E9-9D5C5BB0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2B3-F35F-4C1E-B31D-F4ADB6E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E3B-12B7-422C-A588-7007126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14E-5425-4275-B68B-8747B23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38-9580-4DE7-8C97-E48CBB20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00-7015-4A40-86C4-4A0A1A0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E8A-8043-4FB1-8ECA-367CE68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DBD7-DD93-430F-B3C5-FAC10306B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